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7.png" ContentType="image/png"/>
  <Override PartName="/ppt/media/image15.jpeg" ContentType="image/jpeg"/>
  <Override PartName="/ppt/media/image14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0E4D-8385-4E11-82FA-2CB08C44C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1AB4-1A34-4E91-A1E7-F7A0F45F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D3E7-C2D2-43B0-80B5-64FDE080C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B417-D0DD-404E-8271-D28E6D62A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2D55-313E-4399-A45B-DC96B2887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1137-EFA8-42CD-BF70-33E368ED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775E-5CCE-4E78-95A8-2FE4B98F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0968-93E4-4B52-A903-752EC665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DDCA-B2FD-4AB4-80F6-F1A1867B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BCD2-2EE5-48DA-A373-98000130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37FB-6301-4CD5-983E-DAD44929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75E1-712B-4033-9A4E-DCFD7CD0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A2D6-5FE6-4274-8815-6141633C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3846-9F95-44D1-8FCE-06590F80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F8B4-57CF-4E31-879B-89CABA27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391A-2CDD-421D-9299-44441FC77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EF46-1C05-49B2-ACF8-27F572BA4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30829-5646-4590-BAE5-FF8758914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69ECF-2D37-420A-84AD-E2964B81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A48ED-327A-4C65-9B93-30B1DB7C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61C93-106A-4B81-BA09-5463EB40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03A34-BDA4-4155-94F7-FFCF53CA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D9D0-C8BB-4272-9473-E9BE8A44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60977-77F4-43F2-B56E-92E5DCFA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0ED5F-C704-4F99-A449-EE0040B5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E094E-BD15-41C1-BDD4-32975E46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04ACF-9653-4E69-91F0-3895CBDC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5B816-8D2A-4B74-BFC6-67FAB97C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B9D89-A4DF-4F1C-B2DF-48AE0459F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A0303-2CF4-4BDB-B74D-BF007C80F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7581D-5D18-45B1-835F-4755BAB1C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02C1B-1960-4C57-AECF-C7B879FF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9C707-046F-407B-842A-AE385937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8335-1D1E-4A35-AEF8-E73E6916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0E7C0-34BB-453C-BAF1-DAD97052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FCFAC-4BAF-4055-A988-27AF833B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BD18A-2ACB-40F5-A915-60662607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EFA4E-6519-489B-B903-F0599B8B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C25B7-E825-4E17-AEEB-769368F7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F2EDB-8EC0-4797-AB32-B889DC91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FDBB8-BE98-41F8-8285-4563EF4C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C2BAC-8231-48F1-B0A1-EFDB92C5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CA971-803F-4C88-93DF-02181F1AA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544B-045B-4BBD-B3E9-C7B0DD98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BD3C-E241-418D-948F-6E97B04C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A0ED-4EEF-4C2F-A77F-5816DF1D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91D0-D226-421A-9582-A527D16C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EB76-8DD3-44B9-B646-41674BA5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24F7-DAE4-49DA-BB67-C4DD744BCAC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2323-08A0-4969-BD48-712F3B9BC24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904C-6988-4D96-8C31-13AE9F6AE1F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6CA2-0A99-48EF-9CBB-EFE347EBB10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895320" y="865080"/>
            <a:ext cx="846144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716360" y="6153120"/>
            <a:ext cx="3959280" cy="704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втор: Оборин Никит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5" descr="C:\Users\Никита\Desktop\distancionnaya-ucheba.jpg"/>
          <p:cNvPicPr/>
          <p:nvPr/>
        </p:nvPicPr>
        <p:blipFill>
          <a:blip r:embed="rId2"/>
          <a:stretch/>
        </p:blipFill>
        <p:spPr>
          <a:xfrm>
            <a:off x="468360" y="2276640"/>
            <a:ext cx="41749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 rot="21116400">
            <a:off x="479520" y="1065240"/>
            <a:ext cx="3983040" cy="12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Ты молодой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TextBox 5"/>
          <p:cNvSpPr/>
          <p:nvPr/>
        </p:nvSpPr>
        <p:spPr>
          <a:xfrm rot="21100800">
            <a:off x="380520" y="2046960"/>
            <a:ext cx="6958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Ты хочешь достойного обучения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7"/>
          <p:cNvSpPr/>
          <p:nvPr/>
        </p:nvSpPr>
        <p:spPr>
          <a:xfrm rot="583800">
            <a:off x="3884760" y="2942280"/>
            <a:ext cx="56325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Ты хочешь иметь возможность самореализаци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8"/>
          <p:cNvSpPr/>
          <p:nvPr/>
        </p:nvSpPr>
        <p:spPr>
          <a:xfrm rot="636600">
            <a:off x="4759200" y="1016280"/>
            <a:ext cx="4167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Тебя волнует твоё будуще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0"/>
          <p:cNvSpPr/>
          <p:nvPr/>
        </p:nvSpPr>
        <p:spPr>
          <a:xfrm>
            <a:off x="900000" y="2781360"/>
            <a:ext cx="7561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nstantia"/>
              </a:rPr>
              <a:t>Надо действовать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Прямоугольник 9" descr=""/>
          <p:cNvPicPr/>
          <p:nvPr/>
        </p:nvPicPr>
        <p:blipFill>
          <a:blip r:embed="rId1"/>
          <a:stretch/>
        </p:blipFill>
        <p:spPr>
          <a:xfrm>
            <a:off x="2919240" y="2279520"/>
            <a:ext cx="3157560" cy="198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5" descr="C:\Users\Никита\Desktop\spa's_Wallpapers_pack_015-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5" name="Содержимое 3" descr=""/>
          <p:cNvPicPr/>
          <p:nvPr/>
        </p:nvPicPr>
        <p:blipFill>
          <a:blip r:embed="rId2"/>
          <a:stretch/>
        </p:blipFill>
        <p:spPr>
          <a:xfrm>
            <a:off x="304920" y="3108240"/>
            <a:ext cx="8265960" cy="3792600"/>
          </a:xfrm>
          <a:prstGeom prst="rect">
            <a:avLst/>
          </a:prstGeom>
          <a:ln w="0">
            <a:noFill/>
          </a:ln>
        </p:spPr>
      </p:pic>
      <p:pic>
        <p:nvPicPr>
          <p:cNvPr id="206" name="Прямоугольник 6" descr=""/>
          <p:cNvPicPr/>
          <p:nvPr/>
        </p:nvPicPr>
        <p:blipFill>
          <a:blip r:embed="rId3"/>
          <a:stretch/>
        </p:blipFill>
        <p:spPr>
          <a:xfrm>
            <a:off x="407880" y="133200"/>
            <a:ext cx="8328240" cy="1152720"/>
          </a:xfrm>
          <a:prstGeom prst="rect">
            <a:avLst/>
          </a:prstGeom>
          <a:ln w="0">
            <a:noFill/>
          </a:ln>
        </p:spPr>
      </p:pic>
      <p:pic>
        <p:nvPicPr>
          <p:cNvPr id="207" name="Прямоугольник 7" descr=""/>
          <p:cNvPicPr/>
          <p:nvPr/>
        </p:nvPicPr>
        <p:blipFill>
          <a:blip r:embed="rId4"/>
          <a:stretch/>
        </p:blipFill>
        <p:spPr>
          <a:xfrm>
            <a:off x="1755720" y="1212840"/>
            <a:ext cx="5462640" cy="1152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Никита\Desktop\12247849541307080526radacina_cursor_hand-svg-hi.png"/>
          <p:cNvPicPr/>
          <p:nvPr/>
        </p:nvPicPr>
        <p:blipFill>
          <a:blip r:embed="rId5"/>
          <a:stretch/>
        </p:blipFill>
        <p:spPr>
          <a:xfrm>
            <a:off x="3780000" y="7029360"/>
            <a:ext cx="995040" cy="132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7.03704E-006 C -0.0033 -0.06089 -0.0066 -0.12153 0.00122 -0.15857 C 0.00903 -0.19561 0.01684 -0.19931 0.04635 -0.22223 C 0.07587 -0.24515 0.14792 -0.28149 0.17865 -0.29677 C 0.20938 -0.31204 0.22222 -0.31042 0.2309 -0.31413 E">
                                      <p:cBhvr>
                                        <p:cTn id="90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68360" y="1557360"/>
            <a:ext cx="8229600" cy="25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казав «Нет», ты проявляешь свою пассивность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казав «Нет», ты отказываешься помогать государству в улучшении твоей жизни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казав «Нет», ты тот, кто добровольно позволяет другим определять твоё будущее и будущее страны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Прямоугольник 3" descr=""/>
          <p:cNvPicPr/>
          <p:nvPr/>
        </p:nvPicPr>
        <p:blipFill>
          <a:blip r:embed="rId1"/>
          <a:stretch/>
        </p:blipFill>
        <p:spPr>
          <a:xfrm>
            <a:off x="2766960" y="-30240"/>
            <a:ext cx="3133800" cy="1663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C:\Users\Никита\Desktop\erterth.jpg"/>
          <p:cNvPicPr/>
          <p:nvPr/>
        </p:nvPicPr>
        <p:blipFill>
          <a:blip r:embed="rId2"/>
          <a:stretch/>
        </p:blipFill>
        <p:spPr>
          <a:xfrm>
            <a:off x="4859280" y="4076640"/>
            <a:ext cx="4030560" cy="24955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7"/>
          <p:cNvSpPr/>
          <p:nvPr/>
        </p:nvSpPr>
        <p:spPr>
          <a:xfrm>
            <a:off x="468360" y="5229360"/>
            <a:ext cx="42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Итог: Твоя жизнь не в твоих ру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9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C:\Users\Никита\Desktop\spa's_Wallpapers_pack_015-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Содержимое 3" descr=""/>
          <p:cNvPicPr/>
          <p:nvPr/>
        </p:nvPicPr>
        <p:blipFill>
          <a:blip r:embed="rId2"/>
          <a:stretch/>
        </p:blipFill>
        <p:spPr>
          <a:xfrm>
            <a:off x="304920" y="3108240"/>
            <a:ext cx="8265960" cy="3792600"/>
          </a:xfrm>
          <a:prstGeom prst="rect">
            <a:avLst/>
          </a:prstGeom>
          <a:ln w="0">
            <a:noFill/>
          </a:ln>
        </p:spPr>
      </p:pic>
      <p:pic>
        <p:nvPicPr>
          <p:cNvPr id="215" name="Прямоугольник 6" descr=""/>
          <p:cNvPicPr/>
          <p:nvPr/>
        </p:nvPicPr>
        <p:blipFill>
          <a:blip r:embed="rId3"/>
          <a:stretch/>
        </p:blipFill>
        <p:spPr>
          <a:xfrm>
            <a:off x="407880" y="133200"/>
            <a:ext cx="8328240" cy="1152720"/>
          </a:xfrm>
          <a:prstGeom prst="rect">
            <a:avLst/>
          </a:prstGeom>
          <a:ln w="0">
            <a:noFill/>
          </a:ln>
        </p:spPr>
      </p:pic>
      <p:pic>
        <p:nvPicPr>
          <p:cNvPr id="216" name="Прямоугольник 7" descr=""/>
          <p:cNvPicPr/>
          <p:nvPr/>
        </p:nvPicPr>
        <p:blipFill>
          <a:blip r:embed="rId4"/>
          <a:stretch/>
        </p:blipFill>
        <p:spPr>
          <a:xfrm>
            <a:off x="1755720" y="1212840"/>
            <a:ext cx="5462640" cy="1152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C:\Users\Никита\Desktop\12247849541307080526radacina_cursor_hand-svg-hi.png"/>
          <p:cNvPicPr/>
          <p:nvPr/>
        </p:nvPicPr>
        <p:blipFill>
          <a:blip r:embed="rId5"/>
          <a:stretch/>
        </p:blipFill>
        <p:spPr>
          <a:xfrm>
            <a:off x="3780000" y="7029360"/>
            <a:ext cx="995040" cy="132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34 0.01875 C -0.0092 -0.03774 -0.01389 -0.09422 -0.02691 -0.13843 C -0.03993 -0.18264 -0.05486 -0.21482 -0.08299 -0.2463 C -0.11111 -0.27778 -0.17743 -0.31227 -0.19601 -0.32732 E">
                                      <p:cBhvr>
                                        <p:cTn id="146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179280" y="1413000"/>
            <a:ext cx="82296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дя на выборы, ты заявляешь всем, что тебе не безразлично свое будущее и будущее своей страны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дя на выборы, ты подтверждаешь, что вместе мы сила! Мы сильное государство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дя на выборы, ты открыто говоришь: «Я ответственный за себя и свою жизнь!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468360" y="5373720"/>
            <a:ext cx="43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тог: Ты высказал свою позицию как Гражданин своей стран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C:\Users\Никита\Desktop\77561586303636.jpg"/>
          <p:cNvPicPr/>
          <p:nvPr/>
        </p:nvPicPr>
        <p:blipFill>
          <a:blip r:embed="rId1"/>
          <a:stretch/>
        </p:blipFill>
        <p:spPr>
          <a:xfrm>
            <a:off x="5478480" y="4221000"/>
            <a:ext cx="3665520" cy="2637000"/>
          </a:xfrm>
          <a:prstGeom prst="rect">
            <a:avLst/>
          </a:prstGeom>
          <a:ln w="0">
            <a:noFill/>
          </a:ln>
        </p:spPr>
      </p:pic>
      <p:pic>
        <p:nvPicPr>
          <p:cNvPr id="221" name="Прямоугольник 6" descr=""/>
          <p:cNvPicPr/>
          <p:nvPr/>
        </p:nvPicPr>
        <p:blipFill>
          <a:blip r:embed="rId2"/>
          <a:stretch/>
        </p:blipFill>
        <p:spPr>
          <a:xfrm>
            <a:off x="73080" y="165240"/>
            <a:ext cx="9279000" cy="102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9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7" descr=""/>
          <p:cNvPicPr/>
          <p:nvPr/>
        </p:nvPicPr>
        <p:blipFill>
          <a:blip r:embed="rId1"/>
          <a:stretch/>
        </p:blipFill>
        <p:spPr>
          <a:xfrm>
            <a:off x="108000" y="3645000"/>
            <a:ext cx="3995640" cy="2997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179280" y="1341360"/>
            <a:ext cx="8715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менно в руках молодых находиться будущее стран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м дальше жить, учиться, работать, любить!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м изобретать, творить, находить свое место в жизни!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Прямоугольник 4" descr=""/>
          <p:cNvPicPr/>
          <p:nvPr/>
        </p:nvPicPr>
        <p:blipFill>
          <a:blip r:embed="rId2"/>
          <a:stretch/>
        </p:blipFill>
        <p:spPr>
          <a:xfrm>
            <a:off x="201600" y="133200"/>
            <a:ext cx="8766360" cy="115272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8"/>
          <p:cNvSpPr/>
          <p:nvPr/>
        </p:nvSpPr>
        <p:spPr>
          <a:xfrm>
            <a:off x="324000" y="299736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опрос: в каких условиях и по каким правила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9"/>
          <p:cNvSpPr/>
          <p:nvPr/>
        </p:nvSpPr>
        <p:spPr>
          <a:xfrm>
            <a:off x="4206960" y="4076640"/>
            <a:ext cx="493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ый должен сделать свой выбо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8" descr="C:\Users\Никита\Desktop\CHECK.gif"/>
          <p:cNvPicPr/>
          <p:nvPr/>
        </p:nvPicPr>
        <p:blipFill>
          <a:blip r:embed="rId3"/>
          <a:stretch/>
        </p:blipFill>
        <p:spPr>
          <a:xfrm>
            <a:off x="7236000" y="4797360"/>
            <a:ext cx="1272960" cy="15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935000"/>
            <a:ext cx="8229600" cy="17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Плохие власти выбираются хорошими гражданами, которые не голосуют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ж. Д. Натан, американский политоло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C:\Users\Никита\Desktop\e2f4337fee6da6862503b88393c19e9b.jpg"/>
          <p:cNvPicPr/>
          <p:nvPr/>
        </p:nvPicPr>
        <p:blipFill>
          <a:blip r:embed="rId1"/>
          <a:stretch/>
        </p:blipFill>
        <p:spPr>
          <a:xfrm>
            <a:off x="4140360" y="3716280"/>
            <a:ext cx="4236840" cy="2820960"/>
          </a:xfrm>
          <a:prstGeom prst="rect">
            <a:avLst/>
          </a:prstGeom>
          <a:ln w="0">
            <a:noFill/>
          </a:ln>
        </p:spPr>
      </p:pic>
      <p:pic>
        <p:nvPicPr>
          <p:cNvPr id="230" name="Прямоугольник 5" descr=""/>
          <p:cNvPicPr/>
          <p:nvPr/>
        </p:nvPicPr>
        <p:blipFill>
          <a:blip r:embed="rId2"/>
          <a:stretch/>
        </p:blipFill>
        <p:spPr>
          <a:xfrm>
            <a:off x="1176480" y="566640"/>
            <a:ext cx="5114880" cy="11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13:42:45Z</dcterms:created>
  <dc:creator>Никита</dc:creator>
  <dc:description/>
  <dc:language>en-US</dc:language>
  <cp:lastModifiedBy>Никита</cp:lastModifiedBy>
  <dcterms:modified xsi:type="dcterms:W3CDTF">2012-02-27T18:20:47Z</dcterms:modified>
  <cp:revision>37</cp:revision>
  <dc:subject/>
  <dc:title>А ты идёшь голосовать?</dc:title>
</cp:coreProperties>
</file>